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3FC9-C3C7-4BD0-856E-4E7864C6E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6111-0101-481A-B599-DE0F66AF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76BF-518F-4F94-A2FB-48EA28BBC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530B-4E98-465A-A2A1-EFF03809B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6C4B-7EEC-4C6F-87F9-57D1E903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EB55-40CD-419D-AAB1-632A856B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BDD5-B8F9-4BB0-8942-4B20C67D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B3F8-EC37-4D6D-A66E-B2ACA975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7A21-BBE5-4FAC-8146-FB4EC1B6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95C4-5D13-4E9C-BC3E-4736E98A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4E61-2CAF-4AAE-A634-35ACC4B0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3C75-8DA5-4E84-8C9C-4BC753C4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92F3-2719-435A-85B1-7239E6AEF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48 Ty, jasné Svetlo, svieť mi noci tmo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, jasné Svetlo, svieť mi noci tmou a krok môj ve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s tebou pôjdem cestou bezpečnou až k cieľu vpred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dosiaľ skrýva tma breh otčin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ne stačí vidieť na krok jedin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e vždy som rád šiel, Pane, za tebou a dal sa vi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ábil ma svet a klamnou vidinou dal som za zvi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n osteň miatol rozu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ôľu, ci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ým neuzrel s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ho svetla sv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iež tvoja láska krok môj požehná a vedie vpred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ceste číha priepasť bezodná, úskalie bie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deje lúč však žiari v ústret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mojím svetlom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len ty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8T13:02:28Z</dcterms:modified>
  <cp:revision>20</cp:revision>
  <dc:subject/>
  <dc:title>Je veľký náš Pán, on slávy je Kráľ Nech do všetkých strán  spev vrúcnych znie chvál.</dc:title>
</cp:coreProperties>
</file>